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58.jpeg" ContentType="image/jpeg"/>
  <Override PartName="/ppt/media/image54.jpeg" ContentType="image/jpeg"/>
  <Override PartName="/ppt/media/image30.gif" ContentType="image/gif"/>
  <Override PartName="/ppt/media/image57.jpeg" ContentType="image/jpeg"/>
  <Override PartName="/ppt/media/image60.gif" ContentType="image/gif"/>
  <Override PartName="/ppt/media/image50.gif" ContentType="image/gif"/>
  <Override PartName="/ppt/media/image56.jpeg" ContentType="image/jpeg"/>
  <Override PartName="/ppt/media/image48.jpeg" ContentType="image/jpeg"/>
  <Override PartName="/ppt/media/image53.jpeg" ContentType="image/jpeg"/>
  <Override PartName="/ppt/media/image23.png" ContentType="image/png"/>
  <Override PartName="/ppt/media/image47.gif" ContentType="image/gif"/>
  <Override PartName="/ppt/media/image26.jpeg" ContentType="image/jpeg"/>
  <Override PartName="/ppt/media/image49.gif" ContentType="image/gif"/>
  <Override PartName="/ppt/media/image17.jpeg" ContentType="image/jpeg"/>
  <Override PartName="/ppt/media/image3.png" ContentType="image/png"/>
  <Override PartName="/ppt/media/image40.gif" ContentType="image/gif"/>
  <Override PartName="/ppt/media/image2.jpeg" ContentType="image/jpeg"/>
  <Override PartName="/ppt/media/image14.jpeg" ContentType="image/jpeg"/>
  <Override PartName="/ppt/media/image61.gif" ContentType="image/gif"/>
  <Override PartName="/ppt/media/image8.jpeg" ContentType="image/jpeg"/>
  <Override PartName="/ppt/media/image45.gif" ContentType="image/gif"/>
  <Override PartName="/ppt/media/image65.jpeg" ContentType="image/jpeg"/>
  <Override PartName="/ppt/media/image46.gif" ContentType="image/gif"/>
  <Override PartName="/ppt/media/image39.gif" ContentType="image/gif"/>
  <Override PartName="/ppt/media/image16.jpeg" ContentType="image/jpeg"/>
  <Override PartName="/ppt/media/image18.jpeg" ContentType="image/jpeg"/>
  <Override PartName="/ppt/media/image22.jpeg" ContentType="image/jpeg"/>
  <Override PartName="/ppt/media/image72.gif" ContentType="image/gif"/>
  <Override PartName="/ppt/media/image74.jpeg" ContentType="image/jpeg"/>
  <Override PartName="/ppt/media/image71.gif" ContentType="image/gif"/>
  <Override PartName="/ppt/media/image70.jpeg" ContentType="image/jpeg"/>
  <Override PartName="/ppt/media/image42.gif" ContentType="image/gif"/>
  <Override PartName="/ppt/media/image43.jpeg" ContentType="image/jpeg"/>
  <Override PartName="/ppt/media/image64.jpeg" ContentType="image/jpeg"/>
  <Override PartName="/ppt/media/image36.gif" ContentType="image/gif"/>
  <Override PartName="/ppt/media/image1.png" ContentType="image/png"/>
  <Override PartName="/ppt/media/image68.jpeg" ContentType="image/jpeg"/>
  <Override PartName="/ppt/media/image51.jpeg" ContentType="image/jpeg"/>
  <Override PartName="/ppt/media/image69.png" ContentType="image/png"/>
  <Override PartName="/ppt/media/image67.jpeg" ContentType="image/jpeg"/>
  <Override PartName="/ppt/media/image73.gif" ContentType="image/gif"/>
  <Override PartName="/ppt/media/image66.jpeg" ContentType="image/jpeg"/>
  <Override PartName="/ppt/media/image9.jpeg" ContentType="image/jpeg"/>
  <Override PartName="/ppt/media/image15.wmf" ContentType="image/x-wmf"/>
  <Override PartName="/ppt/media/image55.gif" ContentType="image/gif"/>
  <Override PartName="/ppt/media/image19.jpeg" ContentType="image/jpeg"/>
  <Override PartName="/ppt/media/image63.jpeg" ContentType="image/jpeg"/>
  <Override PartName="/ppt/media/image21.jpeg" ContentType="image/jpeg"/>
  <Override PartName="/ppt/media/image62.gif" ContentType="image/gif"/>
  <Override PartName="/ppt/media/image24.gif" ContentType="image/gif"/>
  <Override PartName="/ppt/media/image32.jpeg" ContentType="image/jpeg"/>
  <Override PartName="/ppt/media/image4.png" ContentType="image/png"/>
  <Override PartName="/ppt/media/image41.gif" ContentType="image/gif"/>
  <Override PartName="/ppt/media/image13.jpeg" ContentType="image/jpeg"/>
  <Override PartName="/ppt/media/image12.jpeg" ContentType="image/jpeg"/>
  <Override PartName="/ppt/media/image29.jpeg" ContentType="image/jpeg"/>
  <Override PartName="/ppt/media/image7.gif" ContentType="image/gif"/>
  <Override PartName="/ppt/media/image25.jpeg" ContentType="image/jpeg"/>
  <Override PartName="/ppt/media/image37.gif" ContentType="image/gif"/>
  <Override PartName="/ppt/media/image27.jpeg" ContentType="image/jpeg"/>
  <Override PartName="/ppt/media/image10.jpeg" ContentType="image/jpeg"/>
  <Override PartName="/ppt/media/image5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8.gif" ContentType="image/gif"/>
  <Override PartName="/ppt/media/image44.jpeg" ContentType="image/jpeg"/>
  <Override PartName="/ppt/media/image52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B84-F108-411C-AC22-730D29C9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F96-5D8B-4F63-9620-50B1D2C5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319-8842-4E47-B455-8DD665F5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870-3772-48DC-8945-B286213F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91C3-386A-41D5-950B-7EB357C6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3DD-9914-4991-89AC-75DBDDF5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04B-B219-4384-A6AD-CB5C91B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47F-4CAA-45F0-9200-A0310DA9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7B8-54B4-4CA4-8A40-9BAA1BC2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067-EB3E-473C-BCD4-DD4868D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22D-6255-4BFC-B436-CEF99D22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ECD-FD00-4BD1-92E8-47FD5317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436E-7D1E-4FB7-94D7-131F36FED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s-info.ru/material/ramki/1/img/1-b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hyperlink" Target="http://naruto-wolf.ucoz.ru/_fr/0/9609581.jpg" TargetMode="External"/><Relationship Id="rId3" Type="http://schemas.openxmlformats.org/officeDocument/2006/relationships/image" Target="../media/image43.jpeg"/><Relationship Id="rId4" Type="http://schemas.openxmlformats.org/officeDocument/2006/relationships/hyperlink" Target="http://musafromwinx.apbb.ru/uploads/0004/f9/1c/2770-2-f.jpg" TargetMode="External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ucho-dyke.narod.ru/kick.jpg" TargetMode="External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70.jpeg"/><Relationship Id="rId6" Type="http://schemas.openxmlformats.org/officeDocument/2006/relationships/hyperlink" Target="http://s41.radikal.ru/i093/0911/4f/e0eb2870cd16.gif" TargetMode="External"/><Relationship Id="rId7" Type="http://schemas.openxmlformats.org/officeDocument/2006/relationships/image" Target="../media/image71.gif"/><Relationship Id="rId8" Type="http://schemas.openxmlformats.org/officeDocument/2006/relationships/image" Target="../media/image72.gif"/><Relationship Id="rId9" Type="http://schemas.openxmlformats.org/officeDocument/2006/relationships/image" Target="../media/image73.gif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2852640"/>
            <a:ext cx="583236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ФАКТОРЫ РАЗВИТИЯ </a:t>
            </a:r>
            <a:endParaRPr b="1" lang="en-US" sz="2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ГРЕССИВНОСТИ</a:t>
            </a:r>
            <a:endParaRPr b="1" lang="en-US" sz="2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ДРОСТКОВ</a:t>
            </a:r>
            <a:endParaRPr b="1" lang="en-US" sz="2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93800">
            <a:off x="3419280" y="260280"/>
            <a:ext cx="1788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27280" y="692280"/>
            <a:ext cx="3888000" cy="3887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835280" y="5157720"/>
            <a:ext cx="52578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Times New Roman"/>
              </a:rPr>
              <a:t>Чрезмерный контроль ил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Times New Roman"/>
              </a:rPr>
              <a:t>отсутствие е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10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0" y="981000"/>
            <a:ext cx="4106880" cy="5543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39640" y="1773360"/>
            <a:ext cx="34560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стокий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ри 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и 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ца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4680000" cy="388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580000" y="1844640"/>
            <a:ext cx="276228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Запрет на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изическую 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тивност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3821040" cy="4392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003640" y="1413000"/>
            <a:ext cx="363564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каз в </a:t>
            </a:r>
            <a:endParaRPr b="1" lang="en-US" sz="1800" spc="1" strike="noStrike">
              <a:ln w="2232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аве на</a:t>
            </a:r>
            <a:endParaRPr b="1" lang="en-US" sz="1800" spc="1" strike="noStrike">
              <a:ln w="2232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232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чную </a:t>
            </a:r>
            <a:endParaRPr b="1" lang="en-US" sz="1800" spc="1" strike="noStrike">
              <a:ln w="2232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cc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вободу</a:t>
            </a:r>
            <a:endParaRPr b="1" lang="en-US" sz="1800" spc="1" strike="noStrike">
              <a:ln w="22320">
                <a:solidFill>
                  <a:srgbClr val="99cc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1799400">
            <a:off x="6877080" y="4869000"/>
            <a:ext cx="1428840" cy="154296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476360" y="1125360"/>
            <a:ext cx="5681160" cy="1876680"/>
            <a:chOff x="1476360" y="1125360"/>
            <a:chExt cx="5681160" cy="1876680"/>
          </a:xfrm>
        </p:grpSpPr>
        <p:sp>
          <p:nvSpPr>
            <p:cNvPr id="94" name=""/>
            <p:cNvSpPr/>
            <p:nvPr/>
          </p:nvSpPr>
          <p:spPr>
            <a:xfrm>
              <a:off x="1710720" y="1352160"/>
              <a:ext cx="5374080" cy="567000"/>
            </a:xfrm>
            <a:custGeom>
              <a:avLst/>
              <a:gdLst>
                <a:gd name="textAreaLeft" fmla="*/ 66600 w 5374080"/>
                <a:gd name="textAreaRight" fmla="*/ 5307480 w 5374080"/>
                <a:gd name="textAreaTop" fmla="*/ 66600 h 567000"/>
                <a:gd name="textAreaBottom" fmla="*/ 500400 h 567000"/>
              </a:gdLst>
              <a:ahLst/>
              <a:rect l="textAreaLeft" t="textAreaTop" r="textAreaRight" b="textAreaBottom"/>
              <a:pathLst>
                <a:path w="204611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1011" y="21600"/>
                  </a:lnTo>
                  <a:arcTo wR="3600" hR="3600" stAng="10800000" swAng="5400000"/>
                  <a:lnTo>
                    <a:pt x="204611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76360" y="1125360"/>
              <a:ext cx="5681160" cy="1876680"/>
            </a:xfrm>
            <a:custGeom>
              <a:avLst/>
              <a:gdLst>
                <a:gd name="textAreaLeft" fmla="*/ 221040 w 5681160"/>
                <a:gd name="textAreaRight" fmla="*/ 5460120 w 5681160"/>
                <a:gd name="textAreaTop" fmla="*/ 221040 h 1876680"/>
                <a:gd name="textAreaBottom" fmla="*/ 1655640 h 1876680"/>
              </a:gdLst>
              <a:ahLst/>
              <a:rect l="textAreaLeft" t="textAreaTop" r="textAreaRight" b="textAreaBottom"/>
              <a:pathLst>
                <a:path w="6538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61780" y="21600"/>
                  </a:lnTo>
                  <a:arcTo wR="3600" hR="3600" stAng="10800000" swAng="5400000"/>
                  <a:lnTo>
                    <a:pt x="6538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00ff00"/>
                </a:gs>
              </a:gsLst>
              <a:lin ang="5400000"/>
            </a:gradFill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ЛИЧНОСТНЫЕ ПРИЧИНЫ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230000" y="3599640"/>
            <a:ext cx="2049840" cy="1168560"/>
            <a:chOff x="4230000" y="3599640"/>
            <a:chExt cx="2049840" cy="1168560"/>
          </a:xfrm>
        </p:grpSpPr>
        <p:sp>
          <p:nvSpPr>
            <p:cNvPr id="97" name=""/>
            <p:cNvSpPr/>
            <p:nvPr/>
          </p:nvSpPr>
          <p:spPr>
            <a:xfrm flipV="1" rot="711000">
              <a:off x="4290120" y="3789000"/>
              <a:ext cx="1928880" cy="789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ff00">
                    <a:alpha val="50196"/>
                  </a:srgbClr>
                </a:gs>
              </a:gsLst>
              <a:lin ang="1341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ПОДСОЗНАТЕ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ОЖИД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793200">
              <a:off x="4309560" y="3875760"/>
              <a:ext cx="18734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419640" y="2421000"/>
            <a:ext cx="439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ип темперамента и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енности характера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187280" y="1628640"/>
            <a:ext cx="2038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Картинка 54 из 209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619280" y="206064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2700360" y="907920"/>
            <a:ext cx="43434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едовольство собо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4800" cy="4581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27640" y="11592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27640" y="3645000"/>
            <a:ext cx="2154240" cy="309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648480" y="3645000"/>
            <a:ext cx="2365200" cy="311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4724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Стремление не быть «как в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31964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5148360" y="2060640"/>
            <a:ext cx="3708360" cy="21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чный </a:t>
            </a:r>
            <a:endParaRPr b="1" i="1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рицательный </a:t>
            </a:r>
            <a:endParaRPr b="1" i="1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8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пыт</a:t>
            </a:r>
            <a:endParaRPr b="1" i="1" lang="en-US" sz="1800" spc="1" strike="noStrike">
              <a:ln w="25560">
                <a:solidFill>
                  <a:srgbClr val="008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19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68360" y="333360"/>
            <a:ext cx="7362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циально-биологические причин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59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АГРЕССИЯ – ЭТО ЛЮБАЯ ФОРМА ПОВЕДЕНИЯ, НАЦЕЛЕННОГО НА ОСКОРБЛЕНИЕ ИЛИ ПРИЧИНЕНИЯ ВРЕДА ДРУГОМУ ЖИВОМУ СУЩЕСТВУ; ЯВНО ЗЛОНАМЕРЕННОЕ ПОВЕДЕНИЕ, ПРЕДПОЛАГАЮЩЕЕ ДЕЙСТВИЯ, ПОСРЕДСТВОМ КОТОРЫХ АГРЕССОР НАМЕРЕННО ПРИЧИНЯЕТ УЩЕРБ СВОЕЙ ЖЕРТВЕ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35640" y="2205000"/>
            <a:ext cx="3041640" cy="30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836640"/>
            <a:ext cx="8424720" cy="576108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19280" y="522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«переходный», «трудный», «критически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189000"/>
            <a:ext cx="46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76576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92360" y="620640"/>
            <a:ext cx="58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СВЕРСТНИКОВ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258920" y="2060640"/>
            <a:ext cx="439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ЕШНИЕ ФАКТОР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24000" y="836640"/>
            <a:ext cx="381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СМИ</a:t>
            </a:r>
            <a:endParaRPr b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08000" y="1989000"/>
            <a:ext cx="5239080" cy="4124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172872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1125360"/>
            <a:ext cx="2087280" cy="1341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00360" y="2852640"/>
            <a:ext cx="4968720" cy="3500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885600" cy="1076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900000" y="549360"/>
            <a:ext cx="4267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МПЬЮТЕРНЫХ 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</a:t>
            </a:r>
            <a:endParaRPr b="1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1112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Georgi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85112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Картинка 11 из 762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92360" y="1916280"/>
            <a:ext cx="2455920" cy="2401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Картинка 6 из 539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4365720"/>
            <a:ext cx="3058920" cy="21016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1042920" y="260280"/>
            <a:ext cx="6496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лияние продуктов питани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227640" y="1484280"/>
            <a:ext cx="2266920" cy="1676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826920" y="1197000"/>
            <a:ext cx="309744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919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042920" y="1052640"/>
            <a:ext cx="494496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лияние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шума, 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брации, 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ноты, 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мпературы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здуха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1258920" y="1773360"/>
            <a:ext cx="651672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РРЕКЦИЯ 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ГРЕССИВНОГО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ВЕДЕНИЯ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908000" y="2421000"/>
            <a:ext cx="425772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СНИЖЕНИЯ 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Я АГРЕССИИ</a:t>
            </a:r>
            <a:endParaRPr b="1" lang="en-US" sz="1800" spc="1" strike="noStrike">
              <a:ln w="19080">
                <a:solidFill>
                  <a:srgbClr val="3333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1776240" cy="216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20192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804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Картинка 7 из 5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0"/>
            <a:ext cx="7056360" cy="6934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133200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2060280"/>
            <a:ext cx="49687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ГРЕССИВНОЕ ПОВЕДЕНИЕ – ЭТО ВЗАИМОДЕЙСТВИЕ, В ХОДЕ КОТОРОГО ОДНИМ ЧЕЛОВЕКОМ (АГРЕССОРОМ) УМЫШЛЕННО НАНОСИТСЯ ВРЕД ДРУГОМУ (ЖЕРТВЕ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76720" y="1700280"/>
            <a:ext cx="3816360" cy="3082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835280" y="4292640"/>
            <a:ext cx="176040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54" name="img_579" descr="Игры в &quot;Тигры&quot;"/>
          <p:cNvPicPr/>
          <p:nvPr/>
        </p:nvPicPr>
        <p:blipFill>
          <a:blip r:embed="rId2"/>
          <a:stretch/>
        </p:blipFill>
        <p:spPr>
          <a:xfrm>
            <a:off x="611280" y="1773360"/>
            <a:ext cx="3889440" cy="4176720"/>
          </a:xfrm>
          <a:prstGeom prst="rect">
            <a:avLst/>
          </a:prstGeom>
          <a:ln w="0">
            <a:noFill/>
          </a:ln>
        </p:spPr>
      </p:pic>
      <p:pic>
        <p:nvPicPr>
          <p:cNvPr id="155" name="img_580" descr="Игры в &quot;Тигры&quot;"/>
          <p:cNvPicPr/>
          <p:nvPr/>
        </p:nvPicPr>
        <p:blipFill>
          <a:blip r:embed="rId3"/>
          <a:stretch/>
        </p:blipFill>
        <p:spPr>
          <a:xfrm>
            <a:off x="5003640" y="1916280"/>
            <a:ext cx="3530880" cy="4105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140360" y="1125360"/>
            <a:ext cx="1404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Georgia"/>
              </a:rPr>
              <a:t>Спокойное отношение в случае незначительной агре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Акцентирование внимания на поступках (поведении), а не на лич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Контроль над собственными негативными эмо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901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60093"/>
                </a:solidFill>
                <a:latin typeface="Georgia"/>
              </a:rPr>
              <a:t>Снижение напряжения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476280"/>
            <a:ext cx="734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комендации по общению с агрессивным ребенком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Обсуждение просту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Демонстрация модели неагрессивно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6009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Georgia"/>
              </a:rPr>
              <a:t>Предупреждение агрессивных действий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04000" y="1557360"/>
            <a:ext cx="17985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11280" y="2060640"/>
            <a:ext cx="4608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щение с </a:t>
            </a:r>
            <a:endParaRPr b="1" i="1" lang="en-US" sz="1800" spc="1" strike="noStrike">
              <a:ln w="2232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енком после </a:t>
            </a:r>
            <a:endParaRPr b="1" i="1" lang="en-US" sz="1800" spc="1" strike="noStrike">
              <a:ln w="2232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грессивного </a:t>
            </a:r>
            <a:endParaRPr b="1" i="1" lang="en-US" sz="1800" spc="1" strike="noStrike">
              <a:ln w="2232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d60093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ведения</a:t>
            </a:r>
            <a:endParaRPr b="1" i="1" lang="en-US" sz="1800" spc="1" strike="noStrike">
              <a:ln w="22320">
                <a:solidFill>
                  <a:srgbClr val="d60093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016440" cy="4178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219640" y="148428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8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05636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8544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9640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Физическая агрес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Косвенная агресс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Вербальная агрессия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Склонность к раздражению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Негативизм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Обида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Подозри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93080" y="242100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19640" y="1413000"/>
            <a:ext cx="1612800" cy="197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292720" y="393372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547640" y="476280"/>
            <a:ext cx="6391440" cy="8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 АГРЕССИВНЫХ РЕАКЦИЙ: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812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87880" cy="4297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1280" y="4221000"/>
            <a:ext cx="2857320" cy="245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284720" y="907920"/>
            <a:ext cx="46735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4000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700360" y="4365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596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Картинка 1318 из 2098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2340000" y="1052640"/>
            <a:ext cx="4762440" cy="4867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04000" y="2852640"/>
            <a:ext cx="71928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987640" y="4149720"/>
            <a:ext cx="489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ИЕ !!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6732720" y="260280"/>
            <a:ext cx="2028600" cy="23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602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602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500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103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416720" cy="5716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5589720"/>
            <a:ext cx="871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ИЧНОСТНЫЕ ОСОБ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ВЕРС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ОМПЬЮТЕР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НЕШНИЕ Ф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35280" y="836640"/>
            <a:ext cx="6323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ФАКТОРЫ РАЗВИТИЯ АГРЕССИИ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012000" y="3357720"/>
            <a:ext cx="277164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268360" y="476280"/>
            <a:ext cx="4229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мейные причин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771640" y="2133720"/>
            <a:ext cx="3719520" cy="374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476360" y="4149720"/>
            <a:ext cx="6067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приятие детей родителями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124000" y="1413000"/>
            <a:ext cx="493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Безразличие ил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враждебность с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стороны род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4054320" cy="551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580000" y="2565360"/>
            <a:ext cx="3041640" cy="13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рушение </a:t>
            </a:r>
            <a:endParaRPr b="1" i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моциональных</a:t>
            </a:r>
            <a:endParaRPr b="1" i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2556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язей в семье</a:t>
            </a:r>
            <a:endParaRPr b="1" i="1" lang="en-US" sz="1800" spc="1" strike="noStrike">
              <a:ln w="2556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4432320" cy="5761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076720" y="2421000"/>
            <a:ext cx="3600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ЕУВАЖЕНИЕ К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ИЧНОСТ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ЕБЕН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04:49:18Z</dcterms:created>
  <dc:creator>Майоровы</dc:creator>
  <dc:description/>
  <dc:language>en-US</dc:language>
  <cp:lastModifiedBy>Admin</cp:lastModifiedBy>
  <dcterms:modified xsi:type="dcterms:W3CDTF">2010-12-09T05:40:01Z</dcterms:modified>
  <cp:revision>25</cp:revision>
  <dc:subject/>
  <dc:title>Агрессивный ребенок</dc:title>
</cp:coreProperties>
</file>